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9A5-CE73-42B0-B31A-D02BCB4C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7CF-1849-4515-9CAE-66D6D3C2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32F-6967-479C-9B37-C586B5BB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EAC-C733-4F19-969F-25755508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4EE-6828-4D54-B468-91870146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EC1-03F3-43ED-BC0F-A334BCF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2E9-C3E1-4C25-ADCC-E6070517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98E-5026-44FC-8472-536706B8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ABC-22E7-429A-8417-221BA9EC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064-C81B-4DBD-AC98-C3E7274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4E8-6E47-4718-A604-8046F99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D0F-A481-466C-9E47-D23F822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37ED-8F1D-4276-969C-868ACCF23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ed 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S-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entral State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f. Hi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S-400 is designed for upper division students and working profess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technology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ing techniques and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A82D-9405-40E8-A9A6-8196B4B59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requisites (students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S-120 and CIS-1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 hours of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aturdays: 2 in Oct and 2 in N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credit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65 non-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175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9135-BB10-4DCD-94B6-6CB7237A1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structure in O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min l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n 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 min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structure in Nov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l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 min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8C77-6C2D-4310-8F9B-98E8A9F61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ning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00 Op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10 Unit 1: Unix/Informatio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20 Unit 2: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30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40 Unit 3: Applied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5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7E86-063E-40DB-A48D-534D3A44A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noon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5 Unit 4: Technolog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:45 Unit 5: Software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:55 Bre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05 Unit 6: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:30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B7D-718D-48BA-98AA-8078BEA75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Testing/Gr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s Quiz (100p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Exam: Integrated project (400p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students: credit/no credi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S majors required to pass with 75%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s posted Ja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939-5CA5-44C0-9BC2-024F376E1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21:13:56Z</dcterms:created>
  <dc:creator>Phil</dc:creator>
  <dc:description/>
  <dc:language>en-US</dc:language>
  <cp:lastModifiedBy>Phil Schneider</cp:lastModifiedBy>
  <dcterms:modified xsi:type="dcterms:W3CDTF">2012-05-09T09:46:14Z</dcterms:modified>
  <cp:revision>86</cp:revision>
  <dc:subject/>
  <dc:title>Personal Computing for the Slightly Anxious Beginner</dc:title>
</cp:coreProperties>
</file>